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F5D-C6CD-4488-A0FE-0DD3A70D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6D7-5629-42E0-9C16-680B3D49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ED5F7-CA24-4C51-87B0-BFC58D6F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1CCED-4D1E-48E4-BBB1-A199B4E9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8163C-D2AC-4010-9363-743414DC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8CD75-2F23-4329-A988-46F283A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6D924-A5DB-46CA-9A2A-AFE3D91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651FC-8907-4850-A84F-0484AD87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ABD85-ADC9-4B18-A25C-98A49AAC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E7605-7C7B-437F-8ECE-AB57F685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BF017-ADC0-4695-B119-4ACB14D8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3CFAD-F7C0-4F4C-ACC3-E5173B30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6F8-AC93-4156-B3A4-4C61EBC7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267A7-E63C-4CA3-9B90-DC444863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98E7B-CADB-4B19-84D1-6E15326B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BA755-282A-4FF2-AC43-266E7D6A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BBFE9-86D1-487C-81DE-3E579BB9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18C6B-FB37-4B26-A3A5-8D4BA735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AAC43-F6D6-481C-9BAD-3DEB4AA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8C57A-8004-43B7-B6D8-3951759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EEF97-03E8-465A-AD9D-AC2B2B2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CAE72-F9EA-4701-8B5D-02A0399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8195D-6ED1-41E5-9F90-AB1A3837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925-D285-4D50-93B7-227DC0AD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16642-604C-4754-B854-056BDF78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3A573-B55E-49C8-9630-A16F922F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7BA13-CFAC-492E-97E5-0C6866BC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124B-BE02-4DC4-B234-3C466C78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7AE14-C6E1-4925-B7D9-EB6C30DB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927F2-14DD-41FF-8FD4-E26952D5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E5B51-419C-41B4-8CB8-517CC329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A3BD-B25F-496E-BF02-164F7F66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0EDED-0956-4256-90F9-5641D64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AEEEB-94DD-4B9E-8207-E8AFAC8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C913-3E47-4624-9198-2B605161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11DE9-33F5-4FDA-BB4F-3CFB34BA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2A90-D6B5-45E5-AD82-D2C67A51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F9991-1881-4FF9-81B4-1B493AE8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20F9E-EB56-4989-9204-DF2E5591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06562-9E32-4E7A-A4F9-D859ED9B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D3667-25B2-4F6D-8D6D-91E96F9B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38DFC-36EF-4FCB-B5B0-060671B1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4874A-E5DA-4B13-8913-5EB42A5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1E530-1C3D-4FB4-BF16-B95CA9CE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A5ADA-89B6-4A82-9CA9-16AC1392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A343-C8EC-459C-AF01-36B3477F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88A79-4BEA-4D12-910F-5501F13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A7912-F864-44FA-8A9F-FF68BC8C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E7858-3859-448D-B486-54D650F4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48E14-5AF0-438F-AA2F-DE66DE73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43FD6-4075-4566-A86B-AF40D8AF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F2C5A-376D-4F60-8522-835827AD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FEBC8-0380-49A7-9AD7-8B1B5C32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EC94D-78FC-41A0-A528-DE3FE286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6EF26-4BE9-43E2-8AB7-58DDF7F9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30E3A-8A98-4678-82D8-33442735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1B31-AD09-42C7-B12B-C6A52846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C610E-1337-40CD-B0FC-21BF2786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E792C-10A2-4532-899A-EECFC17B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1A20F-F067-42EA-BAC0-E0FE5BE9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6EF83-9EFD-4DB3-ADDF-7A2F113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72AAE-36FB-4C78-A971-58BE3D1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314AC-E555-4192-AA03-9F7A6160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5C20A-4306-4367-9145-604ED892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715D6-7EBC-486A-9346-C519290D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64180-BD58-442C-ACC6-B5BB014F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EAADF-2503-4115-93AC-D152A817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23D1-68BF-4C5C-9C18-C8EA57CE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0BD83-48AA-4AFF-AB4C-FD052EBE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A6B01-620F-48DB-AE89-040A9F8E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6EDDF-F443-49DB-B404-7438E87E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013B6-03BE-48D6-A0B8-CCC55EF2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AC027-22D6-4D38-ABD2-555925E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1DABE-F66E-4BDB-BBAF-77CC139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BA6EA-FD54-4529-B30B-494BDF91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209BA-8A6D-4367-BBC1-E653AD7A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52B9A-BB7A-4727-8641-4A7CF744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67FA-8E03-4E7C-B05D-605DC5D1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B05E-033B-4DC0-9177-A9CEA52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5BF5-7F34-49E0-874D-5616287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ECD-8529-41D9-8E3E-DD63AC4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8AB8-6617-4077-B0B1-0F6898A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38E6-64F9-42BE-883E-4CAF3E8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6374-46FD-4C68-B6D3-0980195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7B2D-51D2-46B8-8995-2EC75474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09FB-7798-431F-9B08-CC7192CD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03E8-1D21-42EB-9B61-782AE10A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3DE1-CA5F-48BB-AD57-8E03A01D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4D78-B335-4E15-BA95-AC00CFC2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9D0D-3735-4E52-8519-50D80168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50A4-86D8-4215-B78E-78DFBFC1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334-6765-4BA3-9F89-28B9682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78E8-074D-4D4D-BDDC-AAB74253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2DA9-29D5-4F44-837D-81CEE45B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8C3B-F669-4A73-AAD2-CF6FD6A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60AD-B817-4088-B071-D7A11CD3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C200-DB2D-4691-9FF8-35FC760A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6677-BDEF-4866-BD5E-9981251A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DBB5-9379-4EBD-8B0A-AF22AA9B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55EAF-821F-483F-9E41-11CF2E79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28F7-41E4-42F8-A4E7-FED5204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D20E-9AA7-4393-926A-25A1BF34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257-69C2-44F2-99E4-F634AFF0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5C63-06C0-4B3F-9365-B681031B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DD60F-AC0C-4AF5-B136-E9AF87E7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996F-5B73-460B-BE01-88838A55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9D54-592B-4299-8D32-823B5092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F0912-1E79-4C9D-A526-2DD3E768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2903-BE33-4B65-B92A-0B7EE9E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06DB8-3CB7-4359-9B51-D7B78156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7867-FD7B-4986-A4BA-D5557444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E55E-91E1-4139-8E21-A0C73347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9C3BC-AB80-4072-AA45-489682A5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70C-E603-4C9A-93C9-70A65757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4C33-B5DD-469C-B6A2-6BFF03C6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0E96-8D7D-4F72-B7A5-60C93797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9198E-45B3-4A4C-838E-9E002585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AD650-94ED-40A4-A328-37CCA096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2A424-07CC-4D5B-A6D0-27FC3DB8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4DDD-3A28-4129-88C6-A7A0218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1F1D-F532-4BBD-A3BC-18014D6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7DF73-419E-4CF0-AAB9-D6AB03D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B6FF-E911-40E3-9F1E-79E7D920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56CA-111D-440B-B1F3-EDC9E11A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016-81C7-4248-8028-6F7B9E5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C49DE-B8B4-4B9C-9ECC-718AC372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AA432-1822-4D35-ADBF-A223EEBE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1C9D-4456-4CC7-9471-72C9A062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111C6-302D-4D2F-8212-220BBFB6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A417-A8C3-413B-9855-A678DF4C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D13CE-D54F-4966-89DB-362DECF2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8F00F-E5EB-4430-927C-C3F27E1C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98386-1049-41D5-A332-814CBA2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2F6CF-96C2-412F-B671-11B920B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67925-DE94-418A-8D3B-202A3BD4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52A-2DC6-4A7E-8ABF-EF5B3E0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6800F-FCE7-40BE-BA32-232F64C9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00B4-1926-4553-B14D-D1903571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1F563-DDA0-4061-AA84-28843546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E823D-6C63-4545-8241-28ECE5AA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1C53-544D-42D9-8641-294329A9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89547-3650-4943-A56D-FE73CD13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39100-531F-4DF7-8C73-DBE6B6C2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E2FC4-A4B1-4568-889C-8230E0A6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82B2-9547-45F2-B3A0-EE79E280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A2935-9D81-41DA-AA7F-46BD9CB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DB6-E982-416E-8673-BE4BEFBF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CD2F0-21DF-4AD8-9F78-9E969D7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7BD29-0A5B-4DCA-A378-65388EE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E284F-E8DB-4A9F-8A7B-02C9E5DC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596FC-ABA6-48EE-8D85-0A2039D4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69C8-0EEB-49AA-A739-B1B9DC78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6987F-BD52-4789-9CEE-AE21E2E4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11256-FCE8-43F6-8781-63D9487D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12212-5614-42A1-BC57-41E83296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E7974-4ACE-4055-9F68-84BE6376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26B2A-1E1C-486E-BFFF-426B70E5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C2E-32AA-49EA-AA8A-70D8015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274400" y="915480"/>
            <a:ext cx="7365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15C01-D7CA-46D2-9397-9789A314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A7F92-CCA9-4264-8C00-E4D8136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5534-1F12-4E2D-9899-EA720ADC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E0312-73C7-4AD7-ADA4-7B64F86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274400" y="4290120"/>
            <a:ext cx="7365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8C33D-E1DF-4442-88F5-3D3D793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48640" y="249048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7440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48640" y="4290120"/>
            <a:ext cx="3594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76017-0888-4F3E-80E1-6B68D671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76488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55720" y="249048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27440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76488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255720" y="4290120"/>
            <a:ext cx="23716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2A259-8270-47A9-ABF5-38704D4E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CA47C-FE99-4AF9-90F8-D0EEAD86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F9C99-E513-40AA-8889-0C286BDE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71534-E6E1-4E56-A7A7-5FE5933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5814B-2504-441E-974A-2B9D007B6AF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3"/>
          <p:cNvSpPr/>
          <p:nvPr/>
        </p:nvSpPr>
        <p:spPr>
          <a:xfrm>
            <a:off x="920880" y="905040"/>
            <a:ext cx="495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  <a:ea typeface="宋体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8269200" y="2827440"/>
            <a:ext cx="495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  <a:ea typeface="宋体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384200" y="4140360"/>
            <a:ext cx="71452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2317A-7D23-44DA-A6B1-226DA1A93C8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950760" y="896760"/>
            <a:ext cx="495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  <a:ea typeface="宋体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8286840" y="2608200"/>
            <a:ext cx="495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  <a:ea typeface="宋体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384200" y="3429000"/>
            <a:ext cx="71452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FE82B-503F-4863-81FB-EDF5E95EB24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384200" y="3429000"/>
            <a:ext cx="71582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FD165-0A50-4D4B-BA0B-ADE28B84E03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384200" y="2354400"/>
            <a:ext cx="71582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A4833-15D5-490C-89A5-76761494861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76584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3FFEB-E263-4BD1-BDE8-7FE7509A85F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54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633680" y="1511640"/>
              <a:ext cx="6644880" cy="3840480"/>
              <a:chOff x="1633680" y="1511640"/>
              <a:chExt cx="664488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3680" y="1511640"/>
                <a:ext cx="664488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641600" y="1519920"/>
                <a:ext cx="66222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802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8103600" y="3128400"/>
              <a:ext cx="1802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187720" y="3471840"/>
            <a:ext cx="554040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570720" y="5054760"/>
            <a:ext cx="730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082960" y="5054760"/>
            <a:ext cx="4402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385040" y="5054760"/>
            <a:ext cx="447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E0E33-3778-486A-A3F8-145F0C9EC5A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384200" y="2355840"/>
            <a:ext cx="71452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BAE34-4305-4D52-8D7E-452735F940F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384200" y="3598920"/>
            <a:ext cx="71452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2DB91-CD22-4E0C-A004-87452236322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384200" y="2355840"/>
            <a:ext cx="71452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81199-934C-4364-91FA-70DE7A1F263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384200" y="2354400"/>
            <a:ext cx="71452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47930-EC54-4D6C-A1B5-0F85D347516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384200" y="2354400"/>
            <a:ext cx="71452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BDE88-9216-4766-A3CA-1AE4E3634D4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384200" y="2913120"/>
            <a:ext cx="252900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6A985-5C7F-4DC8-BB7B-03C316E8ABD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915480" cy="6858000"/>
            <a:chOff x="0" y="0"/>
            <a:chExt cx="991548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906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91120" y="536400"/>
              <a:ext cx="8729640" cy="5772960"/>
              <a:chOff x="591120" y="536400"/>
              <a:chExt cx="872964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91120" y="536400"/>
                <a:ext cx="872964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99760" y="542520"/>
                <a:ext cx="871056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9172800" y="3128400"/>
              <a:ext cx="7426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384200" y="4140360"/>
            <a:ext cx="71582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886080" y="5961240"/>
            <a:ext cx="12430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274400" y="5961240"/>
            <a:ext cx="55306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211600" y="5961240"/>
            <a:ext cx="4287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81881-0E44-4709-85DF-BCCA8A4E32F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62000" y="1980720"/>
            <a:ext cx="598176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900" spc="-1" strike="noStrike">
                <a:solidFill>
                  <a:srgbClr val="262626"/>
                </a:solidFill>
                <a:latin typeface="隶书"/>
                <a:ea typeface="隶书"/>
              </a:rPr>
              <a:t>心理学原理与应用</a:t>
            </a:r>
            <a:endParaRPr b="0" lang="en-US" sz="4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3403440" y="4295520"/>
            <a:ext cx="64008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a8bf4d"/>
                </a:solidFill>
                <a:latin typeface="Arial"/>
                <a:ea typeface="华文新魏"/>
              </a:rPr>
              <a:t>                         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文本框 6"/>
          <p:cNvSpPr/>
          <p:nvPr/>
        </p:nvSpPr>
        <p:spPr>
          <a:xfrm>
            <a:off x="3584520" y="3083040"/>
            <a:ext cx="472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庄国萍 王玲 孙慧英 主编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92" name="图片 7" descr=""/>
          <p:cNvPicPr/>
          <p:nvPr/>
        </p:nvPicPr>
        <p:blipFill>
          <a:blip r:embed="rId1"/>
          <a:stretch/>
        </p:blipFill>
        <p:spPr>
          <a:xfrm>
            <a:off x="4006800" y="4950000"/>
            <a:ext cx="1994040" cy="30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Arial"/>
                <a:ea typeface="黑体"/>
              </a:rPr>
              <a:t>智商的计算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704880" y="1483920"/>
            <a:ext cx="8832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为了便于不同儿童间的智力比较，德国心理学家</a:t>
            </a:r>
            <a:r>
              <a:rPr b="1" lang="zh-CN" sz="2400" spc="-1" strike="noStrike">
                <a:solidFill>
                  <a:srgbClr val="212121"/>
                </a:solidFill>
                <a:latin typeface="宋体"/>
                <a:ea typeface="黑体"/>
              </a:rPr>
              <a:t>斯滕</a:t>
            </a: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提出了</a:t>
            </a:r>
            <a:r>
              <a:rPr b="1" lang="zh-CN" sz="2400" spc="-1" strike="noStrike">
                <a:solidFill>
                  <a:srgbClr val="212121"/>
                </a:solidFill>
                <a:latin typeface="宋体"/>
                <a:ea typeface="黑体"/>
              </a:rPr>
              <a:t>智力商数</a:t>
            </a:r>
            <a:r>
              <a:rPr b="1" lang="zh-CN" sz="2400" spc="-1" strike="noStrike">
                <a:solidFill>
                  <a:srgbClr val="212121"/>
                </a:solidFill>
                <a:latin typeface="宋体"/>
                <a:ea typeface="黑体"/>
              </a:rPr>
              <a:t>(</a:t>
            </a:r>
            <a:r>
              <a:rPr b="1" lang="zh-CN" sz="2400" spc="-1" strike="noStrike">
                <a:solidFill>
                  <a:srgbClr val="212121"/>
                </a:solidFill>
                <a:latin typeface="宋体"/>
                <a:ea typeface="黑体"/>
              </a:rPr>
              <a:t>简称智商</a:t>
            </a:r>
            <a:r>
              <a:rPr b="1" lang="zh-CN" sz="2400" spc="-1" strike="noStrike">
                <a:solidFill>
                  <a:srgbClr val="212121"/>
                </a:solidFill>
                <a:latin typeface="宋体"/>
                <a:ea typeface="黑体"/>
              </a:rPr>
              <a:t>)</a:t>
            </a: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的概念，即智力年龄除以实足年龄所得的商数为智力商数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12121"/>
                </a:solidFill>
                <a:latin typeface="Arial"/>
                <a:ea typeface="黑体"/>
              </a:rPr>
              <a:t>心理年龄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mental age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，简称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MA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）指在某一特定年龄所表现出的平均心理能力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12121"/>
                </a:solidFill>
                <a:latin typeface="Arial"/>
                <a:ea typeface="黑体"/>
              </a:rPr>
              <a:t>生理年龄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chronological age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，简称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CA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智商（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intelligence quotient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，简称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IQ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212121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212121"/>
                </a:solidFill>
                <a:latin typeface="Arial"/>
                <a:ea typeface="黑体"/>
              </a:rPr>
              <a:t>IQ=MA/CA×100</a:t>
            </a:r>
            <a:r>
              <a:rPr b="1" lang="zh-CN" sz="2400" spc="-1" strike="noStrike">
                <a:solidFill>
                  <a:srgbClr val="212121"/>
                </a:solidFill>
                <a:latin typeface="Arial"/>
                <a:ea typeface="黑体"/>
              </a:rPr>
              <a:t>（比率智商）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Arial"/>
                <a:ea typeface="黑体"/>
              </a:rPr>
              <a:t>离差智商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韦克斯勒智力量表（三个，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6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岁以前的学前儿童智力量表，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6-16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儿童智力量表，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16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岁之后成人智力量表）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每个量表均包括</a:t>
            </a:r>
            <a:r>
              <a:rPr b="1" lang="zh-CN" sz="2400" spc="-1" strike="noStrike">
                <a:solidFill>
                  <a:srgbClr val="212121"/>
                </a:solidFill>
                <a:latin typeface="Arial"/>
                <a:ea typeface="黑体"/>
              </a:rPr>
              <a:t>言语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（常识、理解、算术、类比、词汇和数字）和</a:t>
            </a:r>
            <a:r>
              <a:rPr b="1" lang="zh-CN" sz="2400" spc="-1" strike="noStrike">
                <a:solidFill>
                  <a:srgbClr val="212121"/>
                </a:solidFill>
                <a:latin typeface="Arial"/>
                <a:ea typeface="黑体"/>
              </a:rPr>
              <a:t>操作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（填图、积木、图片排列、拼图、符号转换和迷津）两个分量表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12121"/>
                </a:solidFill>
                <a:latin typeface="Arial"/>
                <a:ea typeface="黑体"/>
              </a:rPr>
              <a:t>离差智商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deviation IQ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），表示一个人的原始分数高于或低于平均数的程度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离差智商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=100+15Z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，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Z=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X-X</a:t>
            </a:r>
            <a:r>
              <a:rPr b="1" lang="en-US" sz="2400" spc="-1" strike="noStrike" baseline="-25000">
                <a:solidFill>
                  <a:srgbClr val="262626"/>
                </a:solidFill>
                <a:latin typeface="Arial"/>
                <a:ea typeface="黑体"/>
              </a:rPr>
              <a:t>m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/S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415800" y="836640"/>
          <a:ext cx="8832960" cy="5329080"/>
        </p:xfrm>
        <a:graphic>
          <a:graphicData uri="http://schemas.openxmlformats.org/drawingml/2006/table">
            <a:tbl>
              <a:tblPr/>
              <a:tblGrid>
                <a:gridCol w="2521080"/>
                <a:gridCol w="2232000"/>
                <a:gridCol w="407988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智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含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占全部人口的百分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/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以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极优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0~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优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0~1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中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~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中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~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中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~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临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智力落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000" spc="-1" strike="noStrike">
              <a:solidFill>
                <a:srgbClr val="262626"/>
              </a:solidFill>
              <a:latin typeface="Arial"/>
              <a:ea typeface="黑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（二）特殊能力测量：指对特殊职业活动能力的测量，如音乐能力、绘画能力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（三）创造力测量：对人的求异思维水平的测量，主要了解思维的流畅性、变通性和独创性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宋体"/>
                <a:ea typeface="黑体"/>
              </a:rPr>
              <a:t>四、能力的个别差异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人的能力存在着个别差异，这种差异可以表现在质、量和发展三个方面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从质的方面看，完成同一活动，不同的人可能采取不同的途径，或采用不同能力的组合，表现为</a:t>
            </a:r>
            <a:r>
              <a:rPr b="1" lang="zh-CN" sz="2000" spc="-1" strike="noStrike">
                <a:solidFill>
                  <a:srgbClr val="212121"/>
                </a:solidFill>
                <a:latin typeface="楷体_GB2312"/>
                <a:ea typeface="楷体_GB2312"/>
              </a:rPr>
              <a:t>能力类型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的差异；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从量的方面看，有的人智商高，有的人智商低，表现为</a:t>
            </a:r>
            <a:r>
              <a:rPr b="1" lang="zh-CN" sz="2000" spc="-1" strike="noStrike">
                <a:solidFill>
                  <a:srgbClr val="212121"/>
                </a:solidFill>
                <a:latin typeface="楷体_GB2312"/>
                <a:ea typeface="楷体_GB2312"/>
              </a:rPr>
              <a:t>能力发展水平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的差异；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从发展的方面看，有的人能力发展得早，有的人能力发展得晚，表现为能力</a:t>
            </a:r>
            <a:r>
              <a:rPr b="1" lang="zh-CN" sz="2000" spc="-1" strike="noStrike">
                <a:solidFill>
                  <a:srgbClr val="212121"/>
                </a:solidFill>
                <a:latin typeface="楷体_GB2312"/>
                <a:ea typeface="楷体_GB2312"/>
              </a:rPr>
              <a:t>表现早晚的差异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Arial"/>
                <a:ea typeface="黑体"/>
              </a:rPr>
              <a:t>多元智力理论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04880" y="1915920"/>
            <a:ext cx="8832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Arial"/>
                <a:ea typeface="黑体"/>
              </a:rPr>
              <a:t>美国著名心理学家霍华德</a:t>
            </a:r>
            <a:r>
              <a:rPr b="1" lang="en-US" sz="2200" spc="-1" strike="noStrike">
                <a:solidFill>
                  <a:srgbClr val="262626"/>
                </a:solidFill>
                <a:latin typeface="Arial"/>
                <a:ea typeface="黑体"/>
              </a:rPr>
              <a:t>.</a:t>
            </a:r>
            <a:r>
              <a:rPr b="1" lang="zh-CN" sz="2200" spc="-1" strike="noStrike">
                <a:solidFill>
                  <a:srgbClr val="262626"/>
                </a:solidFill>
                <a:latin typeface="Arial"/>
                <a:ea typeface="黑体"/>
              </a:rPr>
              <a:t>加德纳提出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言语智力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逻辑数学智力 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视觉空间智力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身体运动智力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音乐智力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人际智力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自我反省智力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自然观察者智力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849240" y="1412640"/>
            <a:ext cx="851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言语智力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(linguistic intelligence)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运用于听、说、读、写中的智力，主要与言语的运用有关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言语智力比较发达的人，往往能通过口头或书面言语有效地与他人进行沟通，擅长语言的理解与使用。如作家、诗人、记者、演说家、新闻播音员等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776160" y="1915920"/>
            <a:ext cx="85996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逻辑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数学智力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(logical-mathematical intelligence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即运用于逻辑思维和解决数学问题中的智力。逻辑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数学智力发达的人，对抽象的概念非常敏感，擅长推理，思考时注重因果分析。如科学家、数学家、会计师、工程师和电脑程序设计师等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580680" y="1915920"/>
            <a:ext cx="87440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视觉空间智力（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visual/spatial intelligence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准确地知觉空间世界的智力。包括对色彩、线条、形状、空间及这些成分之间的关系的敏感性，以及用图画表达头脑中想象的概念等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视觉空间智力发达的人，善于通过想象进行思考，对视觉空间的感受性强，能从不同角度和层面来重塑空间。如航海家、飞行员、雕塑家、画家和建筑师等。          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0160" y="1844640"/>
            <a:ext cx="85928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身体运动智力（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bodily-kinesthetic intelli -gence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善于运用身体动作表达思想和感情及灵巧地操作物体的智力。包括平衡、协调、敏捷、力量、速度、灵活性等特殊的身体技巧以及对外界或自身刺激反应的能力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身体运动智力发达的人，举手投足灵巧敏捷，如运动员、舞蹈家、外科医生和手艺人等    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31440" y="177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Arial"/>
                <a:ea typeface="黑体"/>
              </a:rPr>
              <a:t>第十一章  能力</a:t>
            </a:r>
            <a:endParaRPr b="0" lang="en-US" sz="6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577800" y="1483920"/>
            <a:ext cx="874872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音乐智力（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musical intelligence)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即运用于唱歌和欣赏音乐中的智力。包括对于节奏和旋律的感受、欣赏和创作的能力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作曲家、指挥家、乐师、音乐评论家、乐器制作者和善于领悟音乐的听众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560160" y="19162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人际智力（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interpersonal intelligence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主要表现在人际交往中的智力。如，觉察并区分他人的情绪、意向、动机及感觉的能力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人际智力发达的人，往往长于察言观色，善解人意、并与他人融洽相处，通常还具有很好的组织能力和领导能力。如成功的教师、社会工作者、演员、政治家等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848880" y="184428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自我反省智力（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intrapersonal intelligence0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即明了自己的内在情感和内心世界，并能有效地运用这种自我认识能力指导自己的行为的能力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自我反省智力发达的人，能深入探索自己的内心世界，分辨自己的心理状态，理解自我的内在情感，并根据对自我的了解来调节自己的行为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神学家、心理学家、哲学家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848880" y="1914480"/>
            <a:ext cx="83581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自然观察者智力（</a:t>
            </a:r>
            <a:r>
              <a:rPr b="1" lang="en-US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natural intelligence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是指观察自然界中各种形态，对物体进行辨认和分类，能够洞察自然或人造系统的能力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学有专长的自然观察者包括农夫、植物学家、猎人、生态学家和庭园设计师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宋体"/>
                <a:ea typeface="黑体"/>
              </a:rPr>
              <a:t>五、能力的形成与发展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70000"/>
              </a:lnSpc>
              <a:spcBef>
                <a:spcPts val="77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100" spc="-1" strike="noStrike">
                <a:solidFill>
                  <a:srgbClr val="212121"/>
                </a:solidFill>
                <a:latin typeface="宋体"/>
                <a:ea typeface="黑体"/>
              </a:rPr>
              <a:t>(</a:t>
            </a:r>
            <a:r>
              <a:rPr b="1" lang="zh-CN" sz="3100" spc="-1" strike="noStrike">
                <a:solidFill>
                  <a:srgbClr val="212121"/>
                </a:solidFill>
                <a:latin typeface="宋体"/>
                <a:ea typeface="黑体"/>
              </a:rPr>
              <a:t>一</a:t>
            </a:r>
            <a:r>
              <a:rPr b="1" lang="zh-CN" sz="3100" spc="-1" strike="noStrike">
                <a:solidFill>
                  <a:srgbClr val="212121"/>
                </a:solidFill>
                <a:latin typeface="宋体"/>
                <a:ea typeface="黑体"/>
              </a:rPr>
              <a:t>)</a:t>
            </a:r>
            <a:r>
              <a:rPr b="1" lang="zh-CN" sz="3100" spc="-1" strike="noStrike">
                <a:solidFill>
                  <a:srgbClr val="212121"/>
                </a:solidFill>
                <a:latin typeface="宋体"/>
                <a:ea typeface="黑体"/>
              </a:rPr>
              <a:t>遗传素质是能力产生的物质基础</a:t>
            </a:r>
            <a:endParaRPr b="0" lang="en-US" sz="31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遗传素质是指有机体与生俱有的某些生理解剖的特点，即表现在人的感觉器官、运动器官以及脑的结构和机能方面的特点。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它是人的能力形成的自然前提、物质基础，没有这个前提就谈不上能力的形成与发展。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但是，优良的遗传素质仅为能力的发展提供了物质基础，为儿童的发展提供了</a:t>
            </a:r>
            <a:r>
              <a:rPr b="1" lang="zh-CN" sz="2200" spc="-1" strike="noStrike">
                <a:solidFill>
                  <a:srgbClr val="212121"/>
                </a:solidFill>
                <a:latin typeface="楷体_GB2312"/>
                <a:ea typeface="楷体_GB2312"/>
              </a:rPr>
              <a:t>可能性</a:t>
            </a:r>
            <a:r>
              <a:rPr b="1" lang="zh-CN" sz="22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，并不能决定人的发展，而且这种可能性要变为现实性，取决于后天的环境和教育。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宋体"/>
                <a:ea typeface="黑体"/>
              </a:rPr>
              <a:t>(</a:t>
            </a:r>
            <a:r>
              <a:rPr b="0" lang="zh-CN" sz="3600" spc="-1" strike="noStrike">
                <a:solidFill>
                  <a:srgbClr val="262626"/>
                </a:solidFill>
                <a:latin typeface="宋体"/>
                <a:ea typeface="黑体"/>
              </a:rPr>
              <a:t>二</a:t>
            </a:r>
            <a:r>
              <a:rPr b="0" lang="zh-CN" sz="3600" spc="-1" strike="noStrike">
                <a:solidFill>
                  <a:srgbClr val="262626"/>
                </a:solidFill>
                <a:latin typeface="宋体"/>
                <a:ea typeface="黑体"/>
              </a:rPr>
              <a:t>)</a:t>
            </a:r>
            <a:r>
              <a:rPr b="1" lang="zh-CN" sz="3600" spc="-1" strike="noStrike">
                <a:solidFill>
                  <a:srgbClr val="262626"/>
                </a:solidFill>
                <a:latin typeface="宋体"/>
                <a:ea typeface="黑体"/>
              </a:rPr>
              <a:t>环境和教育对能力形成的影响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1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．营养制约着能力的形成与发展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2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．早期教育是能力发展的关键因素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早期教育的理论根据是人的能力的发展存在着</a:t>
            </a:r>
            <a:r>
              <a:rPr b="1" lang="zh-CN" sz="1700" spc="-1" strike="noStrike" u="sng">
                <a:solidFill>
                  <a:srgbClr val="212121"/>
                </a:solidFill>
                <a:uFillTx/>
                <a:latin typeface="宋体"/>
                <a:ea typeface="黑体"/>
              </a:rPr>
              <a:t>关键期</a:t>
            </a: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。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布鲁姆认为，假定一个人</a:t>
            </a:r>
            <a:r>
              <a:rPr b="1" lang="en-US" sz="1700" spc="-1" strike="noStrike">
                <a:solidFill>
                  <a:srgbClr val="262626"/>
                </a:solidFill>
                <a:latin typeface="宋体"/>
                <a:ea typeface="黑体"/>
              </a:rPr>
              <a:t>17</a:t>
            </a: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岁达到智力发展的最高点为</a:t>
            </a:r>
            <a:r>
              <a:rPr b="1" lang="en-US" sz="1700" spc="-1" strike="noStrike">
                <a:solidFill>
                  <a:srgbClr val="262626"/>
                </a:solidFill>
                <a:latin typeface="宋体"/>
                <a:ea typeface="黑体"/>
              </a:rPr>
              <a:t>100%</a:t>
            </a: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，而</a:t>
            </a:r>
            <a:r>
              <a:rPr b="1" lang="en-US" sz="1700" spc="-1" strike="noStrike">
                <a:solidFill>
                  <a:srgbClr val="262626"/>
                </a:solidFill>
                <a:latin typeface="宋体"/>
                <a:ea typeface="黑体"/>
              </a:rPr>
              <a:t>4</a:t>
            </a: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岁时就达到了</a:t>
            </a:r>
            <a:r>
              <a:rPr b="1" lang="en-US" sz="1700" spc="-1" strike="noStrike">
                <a:solidFill>
                  <a:srgbClr val="262626"/>
                </a:solidFill>
                <a:latin typeface="宋体"/>
                <a:ea typeface="黑体"/>
              </a:rPr>
              <a:t>50%</a:t>
            </a: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。</a:t>
            </a:r>
            <a:r>
              <a:rPr b="1" lang="zh-CN" sz="1700" spc="-1" strike="noStrike">
                <a:solidFill>
                  <a:srgbClr val="262626"/>
                </a:solidFill>
                <a:latin typeface="Arial"/>
                <a:ea typeface="黑体"/>
              </a:rPr>
              <a:t> 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3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．学校教育对能力的形成和发展起主导作用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212121"/>
                </a:solidFill>
                <a:latin typeface="宋体"/>
                <a:ea typeface="黑体"/>
              </a:rPr>
              <a:t>(</a:t>
            </a:r>
            <a:r>
              <a:rPr b="1" lang="zh-CN" sz="2800" spc="-1" strike="noStrike">
                <a:solidFill>
                  <a:srgbClr val="212121"/>
                </a:solidFill>
                <a:latin typeface="宋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212121"/>
                </a:solidFill>
                <a:latin typeface="宋体"/>
                <a:ea typeface="黑体"/>
              </a:rPr>
              <a:t>)</a:t>
            </a:r>
            <a:r>
              <a:rPr b="1" lang="zh-CN" sz="2800" spc="-1" strike="noStrike">
                <a:solidFill>
                  <a:srgbClr val="212121"/>
                </a:solidFill>
                <a:latin typeface="宋体"/>
                <a:ea typeface="黑体"/>
              </a:rPr>
              <a:t>实践活动与个人的勤奋、爱好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1</a:t>
            </a: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．实践活动是能力形成和发展的必经途径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2</a:t>
            </a:r>
            <a:r>
              <a:rPr b="1" lang="zh-CN" sz="1700" spc="-1" strike="noStrike">
                <a:solidFill>
                  <a:srgbClr val="262626"/>
                </a:solidFill>
                <a:latin typeface="宋体"/>
                <a:ea typeface="黑体"/>
              </a:rPr>
              <a:t>．个人的勤奋与爱好是能力形成与发展的内部动力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256680" y="620280"/>
            <a:ext cx="9649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练习与思考：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一、概念解释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l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能力  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2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智力商数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二、填空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1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在完成某种活动中，各种能力独特的结合是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，而高度发展的能力，在活动中得到最完备的结合就是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。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2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能力可以划分为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与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两大类。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3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是能力形成与发展的前提，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对能力的形成与发展起主导作用，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是能力发展的关键因素，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是能力形成与发展的必经途径。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4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在智力中居于核心地位的是</a:t>
            </a:r>
            <a:r>
              <a:rPr b="1" lang="zh-CN" sz="1600" spc="-1" strike="noStrike" u="sng">
                <a:solidFill>
                  <a:srgbClr val="262626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 。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三、判断题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1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一个人在活动中表现出来的所有心理特征都是能力的表现。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( )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2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一个人的知识越丰富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,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他的能力就越高。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(  )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3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人依据任何一种单独的能力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,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就能成功地完成与之相适应的一项活动。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(  )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4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一个学生的智力年龄为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10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岁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9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个月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,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实际年龄为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10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岁</a:t>
            </a: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,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其智商属于正常。（   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黑体"/>
                <a:ea typeface="黑体"/>
              </a:rPr>
              <a:t>5</a:t>
            </a: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．能力类型的差异表示的是能力的优劣，不是能力的倾向。（   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660240" y="836640"/>
            <a:ext cx="883296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四、问答题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．能力与知识、技能的关系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．智力超常儿童的心理特点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．试述能力的形成与发展受制约的因素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．分析说明能力差异表现在哪些方面？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000" spc="-1" strike="noStrike">
              <a:solidFill>
                <a:srgbClr val="262626"/>
              </a:solidFill>
              <a:latin typeface="Arial"/>
              <a:ea typeface="黑体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知识是人类社会历史经验的总结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技能是通过不断练习和学习巩固下来的“自动化”的活动方式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而能力则是人的一种个性心理特征，决定着活动的成败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60240" y="1599840"/>
            <a:ext cx="8756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个体的知识技能完全是后天获得的，能力的形成与发展除了要受后天的环境教育等因素的影响外，还要受个体先天遗传因素的影响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引子：哪一年的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21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日是星期日？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如果你问丹尼尔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塔米特这个问题，他就会毫不犹豫地回答：“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996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991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985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974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968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963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957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946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。”令人吃惊的是，这只是他小试锋芒。如果加以鼓励，塔米特会一直追溯到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700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年，保证完全正确！他可以进行至少上下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6000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年的计算，轻而易举地说出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2005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年的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日是星期二，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591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年的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日是星期三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塔米特是天才吗？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000" spc="-1" strike="noStrike">
              <a:solidFill>
                <a:srgbClr val="262626"/>
              </a:solidFill>
              <a:latin typeface="Arial"/>
              <a:ea typeface="黑体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宋体"/>
                <a:ea typeface="黑体"/>
              </a:rPr>
              <a:t>能力与知识技能的发展是不同步的，能力发展较早，知识技能的获得相对要晚一些。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宋体"/>
                <a:ea typeface="黑体"/>
              </a:rPr>
              <a:t>知识技能的获得和运用是无止境的，而智力的发展却是有止境的。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黑体"/>
                <a:ea typeface="黑体"/>
              </a:rPr>
              <a:t>一、能力及种类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262626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262626"/>
                </a:solidFill>
                <a:latin typeface="黑体"/>
                <a:ea typeface="黑体"/>
              </a:rPr>
              <a:t>一</a:t>
            </a:r>
            <a:r>
              <a:rPr b="1" lang="zh-CN" sz="22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r>
              <a:rPr b="1" lang="zh-CN" sz="2200" spc="-1" strike="noStrike">
                <a:solidFill>
                  <a:srgbClr val="262626"/>
                </a:solidFill>
                <a:latin typeface="黑体"/>
                <a:ea typeface="黑体"/>
              </a:rPr>
              <a:t>能力及相关的概念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黑体"/>
                <a:ea typeface="黑体"/>
              </a:rPr>
              <a:t>能力是人们成功地完成某种活动所必备的个性心理特征。对此定义可作如下理解：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黑体"/>
                <a:ea typeface="黑体"/>
              </a:rPr>
              <a:t>能力总是与活动密切相联的。但是，人在活动中表现出来的心理特征并不都是能力。只有那些从事某种活动所必须的，缺了它们就不能顺利地、成功地完成活动的心理特征，才属于能力的范畴。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黑体"/>
                <a:ea typeface="黑体"/>
              </a:rPr>
              <a:t>在完成某种活动中，各种能力的独特结合称为才能。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黑体"/>
                <a:ea typeface="黑体"/>
              </a:rPr>
              <a:t>高度发展的多种能力，在活动中最完备的结合，就称为天才。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12760" y="372600"/>
            <a:ext cx="9252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宋体"/>
                <a:ea typeface="黑体"/>
              </a:rPr>
              <a:t>(</a:t>
            </a:r>
            <a:r>
              <a:rPr b="0" lang="zh-CN" sz="4000" spc="-1" strike="noStrike">
                <a:solidFill>
                  <a:srgbClr val="262626"/>
                </a:solidFill>
                <a:latin typeface="宋体"/>
                <a:ea typeface="黑体"/>
              </a:rPr>
              <a:t>二</a:t>
            </a:r>
            <a:r>
              <a:rPr b="0" lang="zh-CN" sz="4000" spc="-1" strike="noStrike">
                <a:solidFill>
                  <a:srgbClr val="262626"/>
                </a:solidFill>
                <a:latin typeface="宋体"/>
                <a:ea typeface="黑体"/>
              </a:rPr>
              <a:t>)</a:t>
            </a:r>
            <a:r>
              <a:rPr b="0" lang="zh-CN" sz="4000" spc="-1" strike="noStrike">
                <a:solidFill>
                  <a:srgbClr val="262626"/>
                </a:solidFill>
                <a:latin typeface="宋体"/>
                <a:ea typeface="黑体"/>
              </a:rPr>
              <a:t>能力的分类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31800" y="1197000"/>
            <a:ext cx="8832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一般能力和特殊能力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一般能力是指人们从事各种活动所必须的最基本的能力。一般能力就是我们通常所指的智力。它包括人的观察力、记忆力、言语能力、思维力与想象力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特殊能力是指从事某种专业活动所必须具备的能力。如教学能力、绘画能力、飞行能力等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一般能力和特殊能力的关系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再造能力和创造能力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再造能力是指在活动中能顺利掌握别人积累的知识、技能，并按现成的模式进行活动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创造能力指创造出独特的、新颖的、有社会价值的产品的能力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宋体"/>
                <a:ea typeface="黑体"/>
              </a:rPr>
              <a:t>二、能力与知识、技能的关系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(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一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)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能力与知识、技能的</a:t>
            </a:r>
            <a:r>
              <a:rPr b="1" lang="zh-CN" sz="2200" spc="-1" strike="noStrike">
                <a:solidFill>
                  <a:srgbClr val="212121"/>
                </a:solidFill>
                <a:latin typeface="宋体"/>
                <a:ea typeface="黑体"/>
              </a:rPr>
              <a:t>区别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1</a:t>
            </a: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．能力与知识、技能的</a:t>
            </a:r>
            <a:r>
              <a:rPr b="0" lang="zh-CN" sz="1900" spc="-1" strike="noStrike" u="sng">
                <a:solidFill>
                  <a:srgbClr val="a8bf4d"/>
                </a:solidFill>
                <a:uFillTx/>
                <a:latin typeface="宋体"/>
                <a:ea typeface="黑体"/>
                <a:hlinkClick r:id="rId1" action="ppaction://hlinksldjump"/>
              </a:rPr>
              <a:t>本质不同</a:t>
            </a: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，它们分属于不同的范畴</a:t>
            </a:r>
            <a:endParaRPr b="0" lang="en-US" sz="19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2</a:t>
            </a: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．能力与知识、技能的</a:t>
            </a:r>
            <a:r>
              <a:rPr b="0" lang="zh-CN" sz="1900" spc="-1" strike="noStrike" u="sng">
                <a:solidFill>
                  <a:srgbClr val="a8bf4d"/>
                </a:solidFill>
                <a:uFillTx/>
                <a:latin typeface="宋体"/>
                <a:ea typeface="黑体"/>
                <a:hlinkClick r:id="rId2" action="ppaction://hlinksldjump"/>
              </a:rPr>
              <a:t>来源不同</a:t>
            </a:r>
            <a:endParaRPr b="0" lang="en-US" sz="19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3</a:t>
            </a: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．能力与知识、技能的</a:t>
            </a:r>
            <a:r>
              <a:rPr b="0" lang="zh-CN" sz="1900" spc="-1" strike="noStrike" u="sng">
                <a:solidFill>
                  <a:srgbClr val="a8bf4d"/>
                </a:solidFill>
                <a:uFillTx/>
                <a:latin typeface="宋体"/>
                <a:ea typeface="黑体"/>
                <a:hlinkClick r:id="rId3" action="ppaction://hlinksldjump"/>
              </a:rPr>
              <a:t>发展速度与发展特点不同</a:t>
            </a:r>
            <a:endParaRPr b="0" lang="en-US" sz="19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 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(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二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)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能力与知识的</a:t>
            </a:r>
            <a:r>
              <a:rPr b="1" lang="zh-CN" sz="2200" spc="-1" strike="noStrike">
                <a:solidFill>
                  <a:srgbClr val="212121"/>
                </a:solidFill>
                <a:latin typeface="宋体"/>
                <a:ea typeface="黑体"/>
              </a:rPr>
              <a:t>联系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1</a:t>
            </a: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．知识是能力发展的基础，能力是在掌握、运用知识的过程中形成和发展起来的</a:t>
            </a:r>
            <a:endParaRPr b="0" lang="en-US" sz="19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2</a:t>
            </a:r>
            <a:r>
              <a:rPr b="1" lang="zh-CN" sz="1900" spc="-1" strike="noStrike">
                <a:solidFill>
                  <a:srgbClr val="262626"/>
                </a:solidFill>
                <a:latin typeface="宋体"/>
                <a:ea typeface="黑体"/>
              </a:rPr>
              <a:t>．能力又是掌握知识的内在条件和可能性。</a:t>
            </a:r>
            <a:endParaRPr b="0" lang="en-US" sz="19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宋体"/>
                <a:ea typeface="黑体"/>
              </a:rPr>
              <a:t>三、能力的测量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能力测量是运用经过精心研究，设计出的各种标准化量表对人的能力进行定量分析，并用数值表示其水平的一种方式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能力测量按照所测能力的类别，可分为一般能力测量、特殊能力测量和创造力的测量。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000" spc="-1" strike="noStrike">
              <a:solidFill>
                <a:srgbClr val="262626"/>
              </a:solidFill>
              <a:latin typeface="Arial"/>
              <a:ea typeface="黑体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(</a:t>
            </a:r>
            <a:r>
              <a:rPr b="0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一</a:t>
            </a:r>
            <a:r>
              <a:rPr b="0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)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一般能力测量</a:t>
            </a:r>
            <a:br>
              <a:rPr sz="2200"/>
            </a:br>
            <a:r>
              <a:rPr b="0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一般能力测量，也称</a:t>
            </a:r>
            <a:r>
              <a:rPr b="1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智力测量</a:t>
            </a:r>
            <a:r>
              <a:rPr b="0" lang="zh-CN" sz="2200" spc="-1" strike="noStrike">
                <a:solidFill>
                  <a:srgbClr val="262626"/>
                </a:solidFill>
                <a:latin typeface="宋体"/>
                <a:ea typeface="黑体"/>
              </a:rPr>
              <a:t>。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1905</a:t>
            </a:r>
            <a:r>
              <a:rPr b="1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年法国心理学家比纳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根据测量智力落后儿童的需要，与西蒙制成了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黑体"/>
              </a:rPr>
              <a:t>第一个</a:t>
            </a:r>
            <a:r>
              <a:rPr b="1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测量智力的工具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，即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比纳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——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黑体"/>
              </a:rPr>
              <a:t>西蒙量表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。这个量表发表后，引起了许多国家的重视，翻译成许多文字，在许多国家推广。美国斯坦福大学心理学教授</a:t>
            </a:r>
            <a:r>
              <a:rPr b="1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推孟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修定了比纳</a:t>
            </a:r>
            <a:r>
              <a:rPr b="0" lang="zh-CN" sz="2600" spc="-1" strike="noStrike">
                <a:solidFill>
                  <a:srgbClr val="262626"/>
                </a:solidFill>
                <a:latin typeface="Times New Roman"/>
                <a:ea typeface="黑体"/>
              </a:rPr>
              <a:t>——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西蒙量表，制成了</a:t>
            </a:r>
            <a:r>
              <a:rPr b="1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斯坦福</a:t>
            </a:r>
            <a:r>
              <a:rPr b="1" lang="zh-CN" sz="2600" spc="-1" strike="noStrike">
                <a:solidFill>
                  <a:srgbClr val="262626"/>
                </a:solidFill>
                <a:latin typeface="Times New Roman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比纳量表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。这个量表又经过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1957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年、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1960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年、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1972</a:t>
            </a:r>
            <a:r>
              <a:rPr b="0" lang="zh-CN" sz="2600" spc="-1" strike="noStrike">
                <a:solidFill>
                  <a:srgbClr val="262626"/>
                </a:solidFill>
                <a:latin typeface="宋体"/>
                <a:ea typeface="黑体"/>
              </a:rPr>
              <a:t>年的几次修改，成为最有影响的一个量表。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74400" y="915480"/>
            <a:ext cx="7365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000" spc="-1" strike="noStrike">
              <a:solidFill>
                <a:srgbClr val="262626"/>
              </a:solidFill>
              <a:latin typeface="Arial"/>
              <a:ea typeface="黑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274400" y="2490480"/>
            <a:ext cx="7365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此量表中，每个年龄组均包含六个条目，每个条目代表两个月的智力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如果一个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岁孩子不仅完成了四岁组的全部项目，还通过了五岁组的三个项目，则此儿童的智力年龄为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岁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个月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楷体_GB2312"/>
              </a:rPr>
              <a:t>如何对不同儿童的智力进行比较呢？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2:00:31Z</dcterms:created>
  <dc:creator>MC SYSTEM</dc:creator>
  <dc:description/>
  <cp:keywords/>
  <dc:language>en-US</dc:language>
  <cp:lastModifiedBy>范美琳</cp:lastModifiedBy>
  <dcterms:modified xsi:type="dcterms:W3CDTF">2025-11-17T06:01:14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  <property fmtid="{D5CDD505-2E9C-101B-9397-08002B2CF9AE}" pid="3" name="_TemplateID">
    <vt:lpwstr>TC010721542052</vt:lpwstr>
  </property>
</Properties>
</file>